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E29-B456-4BD3-AEBE-11417FD0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707-8A41-4ACA-8151-DC2AE3ED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099-5A44-4455-8EFB-40E8274F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901-C162-4F66-9BB7-D9064754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998D-69E5-4D09-BA39-501CEAF2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36B-C169-49A3-A6AD-A5552F38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2CD6-D110-479C-89E8-3151CCF3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53E6-D05C-413F-B66C-F605A12F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5522-40E3-4F19-BACA-D0DED88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94EE-2661-4B6A-ADB8-3AF0963A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CE2B-04AB-46BE-B87F-5E9186EF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2EF-243D-4B3A-806A-2A75037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F3F8-65F5-40BA-9BCA-6898A69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6C16-DFB3-4CBF-9104-A6B8234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32C-CB85-482F-8126-05B7965D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6783-6817-4652-825B-1934A01E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D391-EBE0-49B4-B1C7-857B6EE2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449-C6B5-4C5B-9F99-62B5F763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792-E7A9-4E71-8519-3F90E17C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BC6-010A-47A3-99B2-853A1558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CCF-A696-4D6D-8B28-22C07FB0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A48-C4F9-4920-86CF-0F318792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D38-5721-43E7-AE44-F4BE2899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962-A8D0-4AA0-9442-6C7E14F5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5F5D-5985-4EF9-AFB0-1CAB7CBD6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50EB-D25A-4F2D-9872-5AC20B2BB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Black"/>
              </a:rPr>
              <a:t>REPRESENTACION GRAFIC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IMER G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EMERGENC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256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SERVICIOS PUBLIC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1847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Bodoni MT Black"/>
              </a:rPr>
              <a:t>LOS SIMBOLOS GRAFICOS FACILITA LA INTERPRETACION ADECUADA DE LA INFORMACION. ALGUNAOS DE LOS EJEMPLOS DE LOS CODIGOS QUE SE HAN IDEADO SON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b7"/>
                </a:solidFill>
                <a:latin typeface="Bodoni MT Black"/>
              </a:rPr>
              <a:t>MUSICA ESCRITA, TAQUIGRAFIA, LOGOTIPOS, Y LA CARTOGRAFIA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87480" y="2271600"/>
            <a:ext cx="18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79920" y="1905120"/>
            <a:ext cx="280368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315120" y="4305240"/>
            <a:ext cx="1133280" cy="156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568520" y="41623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68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68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0074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 LO TECNOLOGICO, LA SIMBOLOGIA ES LA BASE DE LA COMUNICACIÓN TÉCNICA QUE SINTETIZA LA EXPLICACION CONCRETANDO LAS IDEAS ESPECIFICA, DE MANERA QUE EN CADA ESPECIALIDAD SE UTILIZAN SIMBOLOS PARTICULARES QUE DAN RESPUESTA A SUS NECESIDADES ALGUNOS DE ELLOS SON: MATEMATICOS, ELECTRICOS, ARQUITECTONICOS, ELECTRONICOS, MECANICOS, Y QUIMICOS.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097440" cy="2006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2737080" cy="12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2720880" cy="1728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003640" y="5229360"/>
            <a:ext cx="2559240" cy="1276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 REPRESENTACION GRAFICA: ARTISTICA Y TECNIC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1"/>
                </a:solidFill>
                <a:latin typeface="Arial"/>
              </a:rPr>
              <a:t>REPRESENTACION ARTI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1"/>
                </a:solidFill>
                <a:latin typeface="Arial"/>
              </a:rPr>
              <a:t>EL DIBUJO, COMO REPERESENTACION DE LA IMAGEN INSPIRADA EN UNA VISION REAL O IMAGINADA, TIENE LA CARACTERISTICA DE SER EMOTIVA, ES DECIR, UN DIBUJO TIENE LA INTENCION DE CAUSAR INTERES A TRAVES DE LA SENSIBILIDAD VI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1"/>
                </a:solidFill>
                <a:latin typeface="Arial"/>
              </a:rPr>
              <a:t>DESDE EL PUNTO DE VISTA TECNOLOGICO LA REPRESENTACION ARTISTICA SE UTILIZA COMO LA PARTE DECORATIVA O DE ATRACCION VISUAL. SE TRANSFIERE A PAPEL, TELA Y PLASTICOS, PARA TAPIZAR MUROS Y MUEBLES O CONFECCIONAR PRENDAS DE VESTIR O AMBIENTAR ESCENOGRAFIAS Y ESTA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0991"/>
                </a:solidFill>
                <a:latin typeface="Arial Black"/>
              </a:rPr>
              <a:t>ARTIST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36760" y="2138400"/>
            <a:ext cx="6810480" cy="372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TISTICA TECNOLOG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264360" cy="387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astellar"/>
              </a:rPr>
              <a:t>LA REPRESENTACION GRAFICA COMO PROCESO DE COMUNICACION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 EL DESEO DE COMUNICAR SUS SENTIMIENTOS, DESCUBRIMIENTOS, Y VIVENCIAS EL HOMBRE PRIMITIVO TUVO LA NECESIDAD DE BUSCAR ALGUNA FORMA DE EXPRESION QUE GUARDARA SUS RECUERD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 ENTONCE QUE PPORMEDIO DEL DIBUJO DE FIGURAS, REGISTRO LOS ACONTECIMIENTOS DE LOS RITUALES. INICIALMENTE DIBUJABA SOBRE LAS PAREDES DE LAS CABERNAS A ESTO LO CONOCEMOS COMO PINTURAS RUPEST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RO PROCESO QUE LOGRO FUE GRABAR SIGNOS SOBRE LOS HUESOS, Y LA MADERA, SIGNOS QUE LE SERVIAN COMO EVIDENCIA DE LAS CANTIDADES DE COSAS QUE POSEIA Y SUS FORM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ROS SIGNOS SERVIAN PARA IDENTIFICAR LAS DIFERENTES FASES DE LA LUNA, LOS DIAS TRANSCURRIDOS Y ESTO LES AYUDO A SISTEMATIZAR SU CALENDARI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ANDO UTILIZA EL PAPIRO HACE 5000 AÑOS NACE EL PAP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6408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1905120"/>
            <a:ext cx="3928320" cy="4190400"/>
            <a:chOff x="838080" y="1905120"/>
            <a:chExt cx="3928320" cy="4190400"/>
          </a:xfrm>
        </p:grpSpPr>
        <p:cxnSp>
          <p:nvCxnSpPr>
            <p:cNvPr id="106" name="_s3086"/>
            <p:cNvCxnSpPr>
              <a:stCxn id="107" idx="1"/>
              <a:endCxn id="108" idx="2"/>
            </p:cNvCxnSpPr>
            <p:nvPr/>
          </p:nvCxnSpPr>
          <p:spPr>
            <a:xfrm rot="10800000">
              <a:off x="2015640" y="2664720"/>
              <a:ext cx="393480" cy="3050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3085"/>
            <p:cNvCxnSpPr>
              <a:stCxn id="110" idx="1"/>
              <a:endCxn id="108" idx="2"/>
            </p:cNvCxnSpPr>
            <p:nvPr/>
          </p:nvCxnSpPr>
          <p:spPr>
            <a:xfrm rot="10800000">
              <a:off x="2015640" y="2664720"/>
              <a:ext cx="393480" cy="190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3084"/>
            <p:cNvCxnSpPr>
              <a:stCxn id="112" idx="1"/>
              <a:endCxn id="108" idx="2"/>
            </p:cNvCxnSpPr>
            <p:nvPr/>
          </p:nvCxnSpPr>
          <p:spPr>
            <a:xfrm rot="10800000">
              <a:off x="2015640" y="2664720"/>
              <a:ext cx="393480" cy="76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3080"/>
            <p:cNvSpPr/>
            <p:nvPr/>
          </p:nvSpPr>
          <p:spPr>
            <a:xfrm>
              <a:off x="838080" y="1905120"/>
              <a:ext cx="2356920" cy="760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cc00"/>
                  </a:solidFill>
                  <a:latin typeface="Arial"/>
                </a:rPr>
                <a:t>REPRESENTACION      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cc00"/>
                  </a:solidFill>
                  <a:latin typeface="Arial"/>
                </a:rPr>
                <a:t>GRAF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081"/>
            <p:cNvSpPr/>
            <p:nvPr/>
          </p:nvSpPr>
          <p:spPr>
            <a:xfrm>
              <a:off x="2409480" y="3048480"/>
              <a:ext cx="2356920" cy="760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ff66"/>
                  </a:solidFill>
                  <a:latin typeface="Arial"/>
                </a:rPr>
                <a:t>IMAGE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3082"/>
            <p:cNvSpPr/>
            <p:nvPr/>
          </p:nvSpPr>
          <p:spPr>
            <a:xfrm>
              <a:off x="2409480" y="4191480"/>
              <a:ext cx="2356920" cy="760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66"/>
                  </a:solidFill>
                  <a:latin typeface="Arial"/>
                </a:rPr>
                <a:t>SIMBOLOG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083"/>
            <p:cNvSpPr/>
            <p:nvPr/>
          </p:nvSpPr>
          <p:spPr>
            <a:xfrm>
              <a:off x="2409480" y="5335200"/>
              <a:ext cx="2356920" cy="760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ARTISTICA Y TECN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16520" y="2278080"/>
            <a:ext cx="3929040" cy="3443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 Black"/>
              </a:rPr>
              <a:t>IMÁGENES</a:t>
            </a:r>
            <a:br>
              <a:rPr sz="3600"/>
            </a:br>
            <a:r>
              <a:rPr b="1" lang="en-US" sz="1200" spc="-1" strike="noStrike">
                <a:solidFill>
                  <a:srgbClr val="99ff66"/>
                </a:solidFill>
                <a:latin typeface="Arial Black"/>
              </a:rPr>
              <a:t>TODO ESTO PROPICIO EL DESARROLLO DE LA ESCRITURA JEROGLIFICA Y LA EXISTENCIA DE LOS ESCRIBAS. LA PALABRA JEROGLIFICO ES DE ORIGEN GRIEGO Y SIGNICA GRABADO SAGRADO.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 LA ESCRITURA SE EMPEZARON A DESCRIBIR ACCIONES Y OBJETOS POR MEDIO DE IMÁGENES ESQUEMATIZADAS O PICTOGRAMAS, ES DECIR, DIBUJOS QUE RELATAN LA HISTORIA O REPRESENTAN UN MENSAJE, ENTONCES A PARTIR DE LA INVENCION DE LA ESCRITURA SE CONCIDERA QUE EL HOMBRE ENCONTRO LA FORMA DE NARRAR SU VI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55454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084680" y="414000"/>
            <a:ext cx="7050600" cy="5887800"/>
            <a:chOff x="1084680" y="414000"/>
            <a:chExt cx="7050600" cy="5887800"/>
          </a:xfrm>
        </p:grpSpPr>
        <p:sp>
          <p:nvSpPr>
            <p:cNvPr id="118" name="_s15383"/>
            <p:cNvSpPr/>
            <p:nvPr/>
          </p:nvSpPr>
          <p:spPr>
            <a:xfrm flipH="1">
              <a:off x="2843640" y="3357000"/>
              <a:ext cx="884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5382"/>
            <p:cNvSpPr/>
            <p:nvPr/>
          </p:nvSpPr>
          <p:spPr>
            <a:xfrm>
              <a:off x="1084680" y="2622240"/>
              <a:ext cx="1761840" cy="147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GIP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PIR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5381"/>
            <p:cNvSpPr/>
            <p:nvPr/>
          </p:nvSpPr>
          <p:spPr>
            <a:xfrm>
              <a:off x="4608720" y="4091400"/>
              <a:ext cx="0" cy="73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5380"/>
            <p:cNvSpPr/>
            <p:nvPr/>
          </p:nvSpPr>
          <p:spPr>
            <a:xfrm>
              <a:off x="3728880" y="4830120"/>
              <a:ext cx="1761840" cy="1471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LACAS DE COBR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5379"/>
            <p:cNvSpPr/>
            <p:nvPr/>
          </p:nvSpPr>
          <p:spPr>
            <a:xfrm>
              <a:off x="5488200" y="3357000"/>
              <a:ext cx="884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5378"/>
            <p:cNvSpPr/>
            <p:nvPr/>
          </p:nvSpPr>
          <p:spPr>
            <a:xfrm>
              <a:off x="6373440" y="2622240"/>
              <a:ext cx="1761840" cy="147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LA DE SE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5377"/>
            <p:cNvSpPr/>
            <p:nvPr/>
          </p:nvSpPr>
          <p:spPr>
            <a:xfrm flipV="1">
              <a:off x="4608720" y="1883160"/>
              <a:ext cx="0" cy="738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5376"/>
            <p:cNvSpPr/>
            <p:nvPr/>
          </p:nvSpPr>
          <p:spPr>
            <a:xfrm>
              <a:off x="3728880" y="414000"/>
              <a:ext cx="1761840" cy="1471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SOPOTAM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ABLILLAS DE BARR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5375"/>
            <p:cNvSpPr/>
            <p:nvPr/>
          </p:nvSpPr>
          <p:spPr>
            <a:xfrm>
              <a:off x="3728880" y="2622240"/>
              <a:ext cx="1761840" cy="147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CRITU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IMBOLOG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O LA COMUNICACIÓN DE LAS IDEAS TAMBIEN EVOLUCIONA AL ESTABLECER PICTOGRAMAS CON SIMBOLOS, QUE REPRESENTAN MENSAJES DE DOMINIO PUBLICO. ESTOS AVISOS LOS OBSERVAMOS COTIDIANAMENTE EN IMÁGENES GRAFICAS QUE CORRESPONDEN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U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2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VIALIDA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GURIDA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95440" y="2235240"/>
            <a:ext cx="6165720" cy="289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7:12Z</dcterms:created>
  <dc:creator>ruben</dc:creator>
  <dc:description/>
  <dc:language>en-US</dc:language>
  <cp:lastModifiedBy>ruben</cp:lastModifiedBy>
  <dcterms:modified xsi:type="dcterms:W3CDTF">2011-03-31T01:39:38Z</dcterms:modified>
  <cp:revision>4</cp:revision>
  <dc:subject/>
  <dc:title>REPRESENTACION GRAFICA</dc:title>
</cp:coreProperties>
</file>